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3552-623D-4FE1-97D1-39C40CA6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672-F261-4B93-B69A-FF61139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B37-6416-45B2-A755-0F1F236D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60E-2724-4A26-A7B5-D32CE1F0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40D-EA57-4F7D-B22F-86990409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E14-72C8-43F4-8173-BF597BE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F63-7BEC-4082-A87B-994AF77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B29-FFC8-433B-882D-A7E8F7A0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AD7-95EB-438E-9683-366DD845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4AA-5411-4EE2-A4CA-D3F6868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074-7483-4CAF-BAF0-14701292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889-817F-4841-90E3-6213324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7F0-9328-413A-894A-5114D0756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03254_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827520" cy="345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60948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 First Grade 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2797200" cy="914400"/>
          </a:xfrm>
          <a:custGeom>
            <a:avLst/>
            <a:gdLst/>
            <a:ahLst/>
            <a:rect l="l" t="t" r="r" b="b"/>
            <a:pathLst>
              <a:path w="1762" h="1227">
                <a:moveTo>
                  <a:pt x="796" y="173"/>
                </a:moveTo>
                <a:cubicBezTo>
                  <a:pt x="765" y="167"/>
                  <a:pt x="694" y="156"/>
                  <a:pt x="660" y="139"/>
                </a:cubicBezTo>
                <a:cubicBezTo>
                  <a:pt x="543" y="80"/>
                  <a:pt x="685" y="124"/>
                  <a:pt x="542" y="88"/>
                </a:cubicBezTo>
                <a:cubicBezTo>
                  <a:pt x="491" y="94"/>
                  <a:pt x="439" y="95"/>
                  <a:pt x="389" y="105"/>
                </a:cubicBezTo>
                <a:cubicBezTo>
                  <a:pt x="354" y="112"/>
                  <a:pt x="288" y="139"/>
                  <a:pt x="288" y="139"/>
                </a:cubicBezTo>
                <a:cubicBezTo>
                  <a:pt x="243" y="184"/>
                  <a:pt x="178" y="216"/>
                  <a:pt x="152" y="275"/>
                </a:cubicBezTo>
                <a:cubicBezTo>
                  <a:pt x="137" y="307"/>
                  <a:pt x="118" y="376"/>
                  <a:pt x="118" y="376"/>
                </a:cubicBezTo>
                <a:cubicBezTo>
                  <a:pt x="124" y="404"/>
                  <a:pt x="119" y="437"/>
                  <a:pt x="135" y="461"/>
                </a:cubicBezTo>
                <a:cubicBezTo>
                  <a:pt x="145" y="476"/>
                  <a:pt x="186" y="460"/>
                  <a:pt x="186" y="478"/>
                </a:cubicBezTo>
                <a:cubicBezTo>
                  <a:pt x="186" y="498"/>
                  <a:pt x="151" y="499"/>
                  <a:pt x="135" y="512"/>
                </a:cubicBezTo>
                <a:cubicBezTo>
                  <a:pt x="117" y="527"/>
                  <a:pt x="99" y="545"/>
                  <a:pt x="84" y="563"/>
                </a:cubicBezTo>
                <a:cubicBezTo>
                  <a:pt x="46" y="609"/>
                  <a:pt x="33" y="665"/>
                  <a:pt x="0" y="715"/>
                </a:cubicBezTo>
                <a:cubicBezTo>
                  <a:pt x="21" y="860"/>
                  <a:pt x="2" y="852"/>
                  <a:pt x="135" y="885"/>
                </a:cubicBezTo>
                <a:cubicBezTo>
                  <a:pt x="238" y="952"/>
                  <a:pt x="354" y="954"/>
                  <a:pt x="474" y="969"/>
                </a:cubicBezTo>
                <a:cubicBezTo>
                  <a:pt x="480" y="1026"/>
                  <a:pt x="464" y="1089"/>
                  <a:pt x="491" y="1139"/>
                </a:cubicBezTo>
                <a:cubicBezTo>
                  <a:pt x="505" y="1164"/>
                  <a:pt x="548" y="1148"/>
                  <a:pt x="576" y="1156"/>
                </a:cubicBezTo>
                <a:cubicBezTo>
                  <a:pt x="610" y="1165"/>
                  <a:pt x="643" y="1178"/>
                  <a:pt x="677" y="1189"/>
                </a:cubicBezTo>
                <a:cubicBezTo>
                  <a:pt x="694" y="1195"/>
                  <a:pt x="728" y="1206"/>
                  <a:pt x="728" y="1206"/>
                </a:cubicBezTo>
                <a:cubicBezTo>
                  <a:pt x="951" y="1191"/>
                  <a:pt x="962" y="1227"/>
                  <a:pt x="1084" y="1105"/>
                </a:cubicBezTo>
                <a:cubicBezTo>
                  <a:pt x="1124" y="986"/>
                  <a:pt x="1084" y="992"/>
                  <a:pt x="1169" y="1020"/>
                </a:cubicBezTo>
                <a:cubicBezTo>
                  <a:pt x="1219" y="1087"/>
                  <a:pt x="1243" y="1113"/>
                  <a:pt x="1321" y="1139"/>
                </a:cubicBezTo>
                <a:cubicBezTo>
                  <a:pt x="1423" y="1133"/>
                  <a:pt x="1525" y="1136"/>
                  <a:pt x="1626" y="1122"/>
                </a:cubicBezTo>
                <a:cubicBezTo>
                  <a:pt x="1646" y="1119"/>
                  <a:pt x="1666" y="1105"/>
                  <a:pt x="1677" y="1088"/>
                </a:cubicBezTo>
                <a:cubicBezTo>
                  <a:pt x="1696" y="1058"/>
                  <a:pt x="1700" y="1020"/>
                  <a:pt x="1711" y="986"/>
                </a:cubicBezTo>
                <a:cubicBezTo>
                  <a:pt x="1723" y="950"/>
                  <a:pt x="1750" y="921"/>
                  <a:pt x="1762" y="885"/>
                </a:cubicBezTo>
                <a:cubicBezTo>
                  <a:pt x="1741" y="696"/>
                  <a:pt x="1761" y="781"/>
                  <a:pt x="1711" y="630"/>
                </a:cubicBezTo>
                <a:cubicBezTo>
                  <a:pt x="1692" y="573"/>
                  <a:pt x="1575" y="512"/>
                  <a:pt x="1575" y="512"/>
                </a:cubicBezTo>
                <a:cubicBezTo>
                  <a:pt x="1544" y="420"/>
                  <a:pt x="1562" y="308"/>
                  <a:pt x="1507" y="224"/>
                </a:cubicBezTo>
                <a:cubicBezTo>
                  <a:pt x="1496" y="207"/>
                  <a:pt x="1491" y="184"/>
                  <a:pt x="1474" y="173"/>
                </a:cubicBezTo>
                <a:cubicBezTo>
                  <a:pt x="1429" y="144"/>
                  <a:pt x="1372" y="139"/>
                  <a:pt x="1321" y="122"/>
                </a:cubicBezTo>
                <a:cubicBezTo>
                  <a:pt x="1304" y="116"/>
                  <a:pt x="1287" y="111"/>
                  <a:pt x="1270" y="105"/>
                </a:cubicBezTo>
                <a:cubicBezTo>
                  <a:pt x="1253" y="99"/>
                  <a:pt x="1219" y="88"/>
                  <a:pt x="1219" y="88"/>
                </a:cubicBezTo>
                <a:cubicBezTo>
                  <a:pt x="1089" y="0"/>
                  <a:pt x="923" y="40"/>
                  <a:pt x="779" y="88"/>
                </a:cubicBezTo>
                <a:cubicBezTo>
                  <a:pt x="757" y="154"/>
                  <a:pt x="749" y="126"/>
                  <a:pt x="796" y="17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na00809_" descr=""/>
          <p:cNvPicPr/>
          <p:nvPr/>
        </p:nvPicPr>
        <p:blipFill>
          <a:blip r:embed="rId1"/>
          <a:stretch/>
        </p:blipFill>
        <p:spPr>
          <a:xfrm>
            <a:off x="7238880" y="0"/>
            <a:ext cx="1754280" cy="17175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733920" y="3581280"/>
            <a:ext cx="1828800" cy="2895480"/>
            <a:chOff x="3733920" y="3581280"/>
            <a:chExt cx="1828800" cy="2895480"/>
          </a:xfrm>
        </p:grpSpPr>
        <p:sp>
          <p:nvSpPr>
            <p:cNvPr id="58" name=""/>
            <p:cNvSpPr/>
            <p:nvPr/>
          </p:nvSpPr>
          <p:spPr>
            <a:xfrm>
              <a:off x="4419720" y="3581280"/>
              <a:ext cx="728640" cy="712800"/>
            </a:xfrm>
            <a:custGeom>
              <a:avLst/>
              <a:gdLst/>
              <a:ahLst/>
              <a:rect l="l" t="t" r="r" b="b"/>
              <a:pathLst>
                <a:path w="459" h="381">
                  <a:moveTo>
                    <a:pt x="376" y="93"/>
                  </a:moveTo>
                  <a:cubicBezTo>
                    <a:pt x="283" y="0"/>
                    <a:pt x="284" y="24"/>
                    <a:pt x="139" y="42"/>
                  </a:cubicBezTo>
                  <a:cubicBezTo>
                    <a:pt x="81" y="80"/>
                    <a:pt x="52" y="129"/>
                    <a:pt x="3" y="178"/>
                  </a:cubicBezTo>
                  <a:cubicBezTo>
                    <a:pt x="9" y="240"/>
                    <a:pt x="0" y="305"/>
                    <a:pt x="20" y="364"/>
                  </a:cubicBezTo>
                  <a:cubicBezTo>
                    <a:pt x="26" y="381"/>
                    <a:pt x="53" y="381"/>
                    <a:pt x="71" y="381"/>
                  </a:cubicBezTo>
                  <a:cubicBezTo>
                    <a:pt x="178" y="381"/>
                    <a:pt x="286" y="370"/>
                    <a:pt x="393" y="364"/>
                  </a:cubicBezTo>
                  <a:cubicBezTo>
                    <a:pt x="448" y="282"/>
                    <a:pt x="459" y="289"/>
                    <a:pt x="410" y="144"/>
                  </a:cubicBezTo>
                  <a:cubicBezTo>
                    <a:pt x="386" y="72"/>
                    <a:pt x="331" y="138"/>
                    <a:pt x="376" y="9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67080" y="4267080"/>
              <a:ext cx="1067040" cy="1295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920" y="4571640"/>
              <a:ext cx="685800" cy="228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5486040"/>
              <a:ext cx="228600" cy="990720"/>
            </a:xfrm>
            <a:prstGeom prst="rect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00600" y="5486040"/>
              <a:ext cx="228600" cy="990720"/>
            </a:xfrm>
            <a:prstGeom prst="rect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99000" y="3612960"/>
              <a:ext cx="544680" cy="476280"/>
            </a:xfrm>
            <a:custGeom>
              <a:avLst/>
              <a:gdLst/>
              <a:ahLst/>
              <a:rect l="l" t="t" r="r" b="b"/>
              <a:pathLst>
                <a:path w="343" h="300">
                  <a:moveTo>
                    <a:pt x="0" y="59"/>
                  </a:moveTo>
                  <a:cubicBezTo>
                    <a:pt x="17" y="65"/>
                    <a:pt x="33" y="76"/>
                    <a:pt x="51" y="76"/>
                  </a:cubicBezTo>
                  <a:cubicBezTo>
                    <a:pt x="85" y="76"/>
                    <a:pt x="119" y="52"/>
                    <a:pt x="152" y="59"/>
                  </a:cubicBezTo>
                  <a:cubicBezTo>
                    <a:pt x="175" y="64"/>
                    <a:pt x="186" y="93"/>
                    <a:pt x="203" y="110"/>
                  </a:cubicBezTo>
                  <a:cubicBezTo>
                    <a:pt x="209" y="127"/>
                    <a:pt x="216" y="144"/>
                    <a:pt x="220" y="161"/>
                  </a:cubicBezTo>
                  <a:cubicBezTo>
                    <a:pt x="227" y="189"/>
                    <a:pt x="217" y="225"/>
                    <a:pt x="237" y="245"/>
                  </a:cubicBezTo>
                  <a:cubicBezTo>
                    <a:pt x="250" y="258"/>
                    <a:pt x="271" y="234"/>
                    <a:pt x="288" y="228"/>
                  </a:cubicBezTo>
                  <a:cubicBezTo>
                    <a:pt x="282" y="194"/>
                    <a:pt x="288" y="157"/>
                    <a:pt x="271" y="127"/>
                  </a:cubicBezTo>
                  <a:cubicBezTo>
                    <a:pt x="262" y="111"/>
                    <a:pt x="236" y="118"/>
                    <a:pt x="220" y="110"/>
                  </a:cubicBezTo>
                  <a:cubicBezTo>
                    <a:pt x="102" y="51"/>
                    <a:pt x="242" y="95"/>
                    <a:pt x="102" y="59"/>
                  </a:cubicBezTo>
                  <a:cubicBezTo>
                    <a:pt x="96" y="42"/>
                    <a:pt x="101" y="0"/>
                    <a:pt x="85" y="8"/>
                  </a:cubicBezTo>
                  <a:cubicBezTo>
                    <a:pt x="64" y="18"/>
                    <a:pt x="51" y="59"/>
                    <a:pt x="68" y="76"/>
                  </a:cubicBezTo>
                  <a:cubicBezTo>
                    <a:pt x="82" y="90"/>
                    <a:pt x="102" y="53"/>
                    <a:pt x="119" y="42"/>
                  </a:cubicBezTo>
                  <a:cubicBezTo>
                    <a:pt x="199" y="96"/>
                    <a:pt x="162" y="57"/>
                    <a:pt x="203" y="178"/>
                  </a:cubicBezTo>
                  <a:lnTo>
                    <a:pt x="220" y="228"/>
                  </a:lnTo>
                  <a:cubicBezTo>
                    <a:pt x="220" y="228"/>
                    <a:pt x="203" y="178"/>
                    <a:pt x="203" y="178"/>
                  </a:cubicBezTo>
                  <a:cubicBezTo>
                    <a:pt x="237" y="76"/>
                    <a:pt x="203" y="144"/>
                    <a:pt x="237" y="178"/>
                  </a:cubicBezTo>
                  <a:cubicBezTo>
                    <a:pt x="255" y="196"/>
                    <a:pt x="282" y="201"/>
                    <a:pt x="305" y="212"/>
                  </a:cubicBezTo>
                  <a:cubicBezTo>
                    <a:pt x="316" y="229"/>
                    <a:pt x="343" y="242"/>
                    <a:pt x="339" y="262"/>
                  </a:cubicBezTo>
                  <a:cubicBezTo>
                    <a:pt x="335" y="282"/>
                    <a:pt x="308" y="300"/>
                    <a:pt x="288" y="296"/>
                  </a:cubicBezTo>
                  <a:cubicBezTo>
                    <a:pt x="268" y="292"/>
                    <a:pt x="265" y="262"/>
                    <a:pt x="254" y="245"/>
                  </a:cubicBezTo>
                  <a:cubicBezTo>
                    <a:pt x="248" y="200"/>
                    <a:pt x="267" y="144"/>
                    <a:pt x="237" y="110"/>
                  </a:cubicBezTo>
                  <a:cubicBezTo>
                    <a:pt x="211" y="80"/>
                    <a:pt x="155" y="109"/>
                    <a:pt x="119" y="93"/>
                  </a:cubicBezTo>
                  <a:cubicBezTo>
                    <a:pt x="100" y="85"/>
                    <a:pt x="96" y="59"/>
                    <a:pt x="85" y="42"/>
                  </a:cubicBezTo>
                  <a:cubicBezTo>
                    <a:pt x="79" y="59"/>
                    <a:pt x="86" y="93"/>
                    <a:pt x="68" y="93"/>
                  </a:cubicBezTo>
                  <a:cubicBezTo>
                    <a:pt x="48" y="93"/>
                    <a:pt x="15" y="50"/>
                    <a:pt x="34" y="42"/>
                  </a:cubicBezTo>
                  <a:cubicBezTo>
                    <a:pt x="71" y="27"/>
                    <a:pt x="113" y="53"/>
                    <a:pt x="152" y="59"/>
                  </a:cubicBezTo>
                  <a:cubicBezTo>
                    <a:pt x="146" y="93"/>
                    <a:pt x="135" y="127"/>
                    <a:pt x="135" y="161"/>
                  </a:cubicBezTo>
                  <a:cubicBezTo>
                    <a:pt x="135" y="190"/>
                    <a:pt x="129" y="94"/>
                    <a:pt x="152" y="76"/>
                  </a:cubicBezTo>
                  <a:cubicBezTo>
                    <a:pt x="170" y="61"/>
                    <a:pt x="197" y="87"/>
                    <a:pt x="220" y="93"/>
                  </a:cubicBezTo>
                  <a:cubicBezTo>
                    <a:pt x="203" y="99"/>
                    <a:pt x="179" y="125"/>
                    <a:pt x="169" y="110"/>
                  </a:cubicBezTo>
                  <a:cubicBezTo>
                    <a:pt x="156" y="91"/>
                    <a:pt x="165" y="52"/>
                    <a:pt x="186" y="42"/>
                  </a:cubicBezTo>
                  <a:cubicBezTo>
                    <a:pt x="202" y="34"/>
                    <a:pt x="190" y="80"/>
                    <a:pt x="203" y="93"/>
                  </a:cubicBezTo>
                  <a:cubicBezTo>
                    <a:pt x="259" y="149"/>
                    <a:pt x="254" y="80"/>
                    <a:pt x="254" y="12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8320" y="38858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4495680"/>
              <a:ext cx="533520" cy="838080"/>
            </a:xfrm>
            <a:custGeom>
              <a:avLst/>
              <a:gdLst>
                <a:gd name="textAreaLeft" fmla="*/ 25920 w 533520"/>
                <a:gd name="textAreaRight" fmla="*/ 507600 w 533520"/>
                <a:gd name="textAreaTop" fmla="*/ 25920 h 838080"/>
                <a:gd name="textAreaBottom" fmla="*/ 812160 h 838080"/>
              </a:gdLst>
              <a:ahLst/>
              <a:rect l="textAreaLeft" t="textAreaTop" r="textAreaRight" b="textAreaBottom"/>
              <a:pathLst>
                <a:path w="21600" h="33922">
                  <a:moveTo>
                    <a:pt x="3600" y="0"/>
                  </a:moveTo>
                  <a:arcTo wR="3600" hR="3600" stAng="16200000" swAng="-5400000"/>
                  <a:lnTo>
                    <a:pt x="0" y="30322"/>
                  </a:lnTo>
                  <a:arcTo wR="3600" hR="3600" stAng="10800000" swAng="-5400000"/>
                  <a:lnTo>
                    <a:pt x="18000" y="339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914400" y="12952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 day Darren was walking to school, and he saw a pretty shiny coin laying in the gr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64771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6095880"/>
            <a:ext cx="83844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6095880"/>
            <a:ext cx="838080" cy="7621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04920"/>
            <a:ext cx="2797200" cy="914400"/>
          </a:xfrm>
          <a:custGeom>
            <a:avLst/>
            <a:gdLst/>
            <a:ahLst/>
            <a:rect l="l" t="t" r="r" b="b"/>
            <a:pathLst>
              <a:path w="1762" h="1227">
                <a:moveTo>
                  <a:pt x="796" y="173"/>
                </a:moveTo>
                <a:cubicBezTo>
                  <a:pt x="765" y="167"/>
                  <a:pt x="694" y="156"/>
                  <a:pt x="660" y="139"/>
                </a:cubicBezTo>
                <a:cubicBezTo>
                  <a:pt x="543" y="80"/>
                  <a:pt x="685" y="124"/>
                  <a:pt x="542" y="88"/>
                </a:cubicBezTo>
                <a:cubicBezTo>
                  <a:pt x="491" y="94"/>
                  <a:pt x="439" y="95"/>
                  <a:pt x="389" y="105"/>
                </a:cubicBezTo>
                <a:cubicBezTo>
                  <a:pt x="354" y="112"/>
                  <a:pt x="288" y="139"/>
                  <a:pt x="288" y="139"/>
                </a:cubicBezTo>
                <a:cubicBezTo>
                  <a:pt x="243" y="184"/>
                  <a:pt x="178" y="216"/>
                  <a:pt x="152" y="275"/>
                </a:cubicBezTo>
                <a:cubicBezTo>
                  <a:pt x="137" y="307"/>
                  <a:pt x="118" y="376"/>
                  <a:pt x="118" y="376"/>
                </a:cubicBezTo>
                <a:cubicBezTo>
                  <a:pt x="124" y="404"/>
                  <a:pt x="119" y="437"/>
                  <a:pt x="135" y="461"/>
                </a:cubicBezTo>
                <a:cubicBezTo>
                  <a:pt x="145" y="476"/>
                  <a:pt x="186" y="460"/>
                  <a:pt x="186" y="478"/>
                </a:cubicBezTo>
                <a:cubicBezTo>
                  <a:pt x="186" y="498"/>
                  <a:pt x="151" y="499"/>
                  <a:pt x="135" y="512"/>
                </a:cubicBezTo>
                <a:cubicBezTo>
                  <a:pt x="117" y="527"/>
                  <a:pt x="99" y="545"/>
                  <a:pt x="84" y="563"/>
                </a:cubicBezTo>
                <a:cubicBezTo>
                  <a:pt x="46" y="609"/>
                  <a:pt x="33" y="665"/>
                  <a:pt x="0" y="715"/>
                </a:cubicBezTo>
                <a:cubicBezTo>
                  <a:pt x="21" y="860"/>
                  <a:pt x="2" y="852"/>
                  <a:pt x="135" y="885"/>
                </a:cubicBezTo>
                <a:cubicBezTo>
                  <a:pt x="238" y="952"/>
                  <a:pt x="354" y="954"/>
                  <a:pt x="474" y="969"/>
                </a:cubicBezTo>
                <a:cubicBezTo>
                  <a:pt x="480" y="1026"/>
                  <a:pt x="464" y="1089"/>
                  <a:pt x="491" y="1139"/>
                </a:cubicBezTo>
                <a:cubicBezTo>
                  <a:pt x="505" y="1164"/>
                  <a:pt x="548" y="1148"/>
                  <a:pt x="576" y="1156"/>
                </a:cubicBezTo>
                <a:cubicBezTo>
                  <a:pt x="610" y="1165"/>
                  <a:pt x="643" y="1178"/>
                  <a:pt x="677" y="1189"/>
                </a:cubicBezTo>
                <a:cubicBezTo>
                  <a:pt x="694" y="1195"/>
                  <a:pt x="728" y="1206"/>
                  <a:pt x="728" y="1206"/>
                </a:cubicBezTo>
                <a:cubicBezTo>
                  <a:pt x="951" y="1191"/>
                  <a:pt x="962" y="1227"/>
                  <a:pt x="1084" y="1105"/>
                </a:cubicBezTo>
                <a:cubicBezTo>
                  <a:pt x="1124" y="986"/>
                  <a:pt x="1084" y="992"/>
                  <a:pt x="1169" y="1020"/>
                </a:cubicBezTo>
                <a:cubicBezTo>
                  <a:pt x="1219" y="1087"/>
                  <a:pt x="1243" y="1113"/>
                  <a:pt x="1321" y="1139"/>
                </a:cubicBezTo>
                <a:cubicBezTo>
                  <a:pt x="1423" y="1133"/>
                  <a:pt x="1525" y="1136"/>
                  <a:pt x="1626" y="1122"/>
                </a:cubicBezTo>
                <a:cubicBezTo>
                  <a:pt x="1646" y="1119"/>
                  <a:pt x="1666" y="1105"/>
                  <a:pt x="1677" y="1088"/>
                </a:cubicBezTo>
                <a:cubicBezTo>
                  <a:pt x="1696" y="1058"/>
                  <a:pt x="1700" y="1020"/>
                  <a:pt x="1711" y="986"/>
                </a:cubicBezTo>
                <a:cubicBezTo>
                  <a:pt x="1723" y="950"/>
                  <a:pt x="1750" y="921"/>
                  <a:pt x="1762" y="885"/>
                </a:cubicBezTo>
                <a:cubicBezTo>
                  <a:pt x="1741" y="696"/>
                  <a:pt x="1761" y="781"/>
                  <a:pt x="1711" y="630"/>
                </a:cubicBezTo>
                <a:cubicBezTo>
                  <a:pt x="1692" y="573"/>
                  <a:pt x="1575" y="512"/>
                  <a:pt x="1575" y="512"/>
                </a:cubicBezTo>
                <a:cubicBezTo>
                  <a:pt x="1544" y="420"/>
                  <a:pt x="1562" y="308"/>
                  <a:pt x="1507" y="224"/>
                </a:cubicBezTo>
                <a:cubicBezTo>
                  <a:pt x="1496" y="207"/>
                  <a:pt x="1491" y="184"/>
                  <a:pt x="1474" y="173"/>
                </a:cubicBezTo>
                <a:cubicBezTo>
                  <a:pt x="1429" y="144"/>
                  <a:pt x="1372" y="139"/>
                  <a:pt x="1321" y="122"/>
                </a:cubicBezTo>
                <a:cubicBezTo>
                  <a:pt x="1304" y="116"/>
                  <a:pt x="1287" y="111"/>
                  <a:pt x="1270" y="105"/>
                </a:cubicBezTo>
                <a:cubicBezTo>
                  <a:pt x="1253" y="99"/>
                  <a:pt x="1219" y="88"/>
                  <a:pt x="1219" y="88"/>
                </a:cubicBezTo>
                <a:cubicBezTo>
                  <a:pt x="1089" y="0"/>
                  <a:pt x="923" y="40"/>
                  <a:pt x="779" y="88"/>
                </a:cubicBezTo>
                <a:cubicBezTo>
                  <a:pt x="757" y="154"/>
                  <a:pt x="749" y="126"/>
                  <a:pt x="796" y="17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na00809_" descr=""/>
          <p:cNvPicPr/>
          <p:nvPr/>
        </p:nvPicPr>
        <p:blipFill>
          <a:blip r:embed="rId1"/>
          <a:stretch/>
        </p:blipFill>
        <p:spPr>
          <a:xfrm>
            <a:off x="7238880" y="0"/>
            <a:ext cx="1754280" cy="1717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4120" y="3962520"/>
            <a:ext cx="728640" cy="712800"/>
          </a:xfrm>
          <a:custGeom>
            <a:avLst/>
            <a:gdLst/>
            <a:ahLst/>
            <a:rect l="l" t="t" r="r" b="b"/>
            <a:pathLst>
              <a:path w="459" h="381">
                <a:moveTo>
                  <a:pt x="376" y="93"/>
                </a:moveTo>
                <a:cubicBezTo>
                  <a:pt x="283" y="0"/>
                  <a:pt x="284" y="24"/>
                  <a:pt x="139" y="42"/>
                </a:cubicBezTo>
                <a:cubicBezTo>
                  <a:pt x="81" y="80"/>
                  <a:pt x="52" y="129"/>
                  <a:pt x="3" y="178"/>
                </a:cubicBezTo>
                <a:cubicBezTo>
                  <a:pt x="9" y="240"/>
                  <a:pt x="0" y="305"/>
                  <a:pt x="20" y="364"/>
                </a:cubicBezTo>
                <a:cubicBezTo>
                  <a:pt x="26" y="381"/>
                  <a:pt x="53" y="381"/>
                  <a:pt x="71" y="381"/>
                </a:cubicBezTo>
                <a:cubicBezTo>
                  <a:pt x="178" y="381"/>
                  <a:pt x="286" y="370"/>
                  <a:pt x="393" y="364"/>
                </a:cubicBezTo>
                <a:cubicBezTo>
                  <a:pt x="448" y="282"/>
                  <a:pt x="459" y="289"/>
                  <a:pt x="410" y="144"/>
                </a:cubicBezTo>
                <a:cubicBezTo>
                  <a:pt x="386" y="72"/>
                  <a:pt x="331" y="138"/>
                  <a:pt x="376" y="9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4648320"/>
            <a:ext cx="1067040" cy="1295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952880"/>
            <a:ext cx="685800" cy="228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5867280"/>
            <a:ext cx="228600" cy="990720"/>
          </a:xfrm>
          <a:prstGeom prst="rect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5867280"/>
            <a:ext cx="228600" cy="990720"/>
          </a:xfrm>
          <a:prstGeom prst="rect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3400" y="3994200"/>
            <a:ext cx="544680" cy="476280"/>
          </a:xfrm>
          <a:custGeom>
            <a:avLst/>
            <a:gdLst/>
            <a:ahLst/>
            <a:rect l="l" t="t" r="r" b="b"/>
            <a:pathLst>
              <a:path w="343" h="300">
                <a:moveTo>
                  <a:pt x="0" y="59"/>
                </a:moveTo>
                <a:cubicBezTo>
                  <a:pt x="17" y="65"/>
                  <a:pt x="33" y="76"/>
                  <a:pt x="51" y="76"/>
                </a:cubicBezTo>
                <a:cubicBezTo>
                  <a:pt x="85" y="76"/>
                  <a:pt x="119" y="52"/>
                  <a:pt x="152" y="59"/>
                </a:cubicBezTo>
                <a:cubicBezTo>
                  <a:pt x="175" y="64"/>
                  <a:pt x="186" y="93"/>
                  <a:pt x="203" y="110"/>
                </a:cubicBezTo>
                <a:cubicBezTo>
                  <a:pt x="209" y="127"/>
                  <a:pt x="216" y="144"/>
                  <a:pt x="220" y="161"/>
                </a:cubicBezTo>
                <a:cubicBezTo>
                  <a:pt x="227" y="189"/>
                  <a:pt x="217" y="225"/>
                  <a:pt x="237" y="245"/>
                </a:cubicBezTo>
                <a:cubicBezTo>
                  <a:pt x="250" y="258"/>
                  <a:pt x="271" y="234"/>
                  <a:pt x="288" y="228"/>
                </a:cubicBezTo>
                <a:cubicBezTo>
                  <a:pt x="282" y="194"/>
                  <a:pt x="288" y="157"/>
                  <a:pt x="271" y="127"/>
                </a:cubicBezTo>
                <a:cubicBezTo>
                  <a:pt x="262" y="111"/>
                  <a:pt x="236" y="118"/>
                  <a:pt x="220" y="110"/>
                </a:cubicBezTo>
                <a:cubicBezTo>
                  <a:pt x="102" y="51"/>
                  <a:pt x="242" y="95"/>
                  <a:pt x="102" y="59"/>
                </a:cubicBezTo>
                <a:cubicBezTo>
                  <a:pt x="96" y="42"/>
                  <a:pt x="101" y="0"/>
                  <a:pt x="85" y="8"/>
                </a:cubicBezTo>
                <a:cubicBezTo>
                  <a:pt x="64" y="18"/>
                  <a:pt x="51" y="59"/>
                  <a:pt x="68" y="76"/>
                </a:cubicBezTo>
                <a:cubicBezTo>
                  <a:pt x="82" y="90"/>
                  <a:pt x="102" y="53"/>
                  <a:pt x="119" y="42"/>
                </a:cubicBezTo>
                <a:cubicBezTo>
                  <a:pt x="199" y="96"/>
                  <a:pt x="162" y="57"/>
                  <a:pt x="203" y="178"/>
                </a:cubicBezTo>
                <a:lnTo>
                  <a:pt x="220" y="228"/>
                </a:lnTo>
                <a:cubicBezTo>
                  <a:pt x="220" y="228"/>
                  <a:pt x="203" y="178"/>
                  <a:pt x="203" y="178"/>
                </a:cubicBezTo>
                <a:cubicBezTo>
                  <a:pt x="237" y="76"/>
                  <a:pt x="203" y="144"/>
                  <a:pt x="237" y="178"/>
                </a:cubicBezTo>
                <a:cubicBezTo>
                  <a:pt x="255" y="196"/>
                  <a:pt x="282" y="201"/>
                  <a:pt x="305" y="212"/>
                </a:cubicBezTo>
                <a:cubicBezTo>
                  <a:pt x="316" y="229"/>
                  <a:pt x="343" y="242"/>
                  <a:pt x="339" y="262"/>
                </a:cubicBezTo>
                <a:cubicBezTo>
                  <a:pt x="335" y="282"/>
                  <a:pt x="308" y="300"/>
                  <a:pt x="288" y="296"/>
                </a:cubicBezTo>
                <a:cubicBezTo>
                  <a:pt x="268" y="292"/>
                  <a:pt x="265" y="262"/>
                  <a:pt x="254" y="245"/>
                </a:cubicBezTo>
                <a:cubicBezTo>
                  <a:pt x="248" y="200"/>
                  <a:pt x="267" y="144"/>
                  <a:pt x="237" y="110"/>
                </a:cubicBezTo>
                <a:cubicBezTo>
                  <a:pt x="211" y="80"/>
                  <a:pt x="155" y="109"/>
                  <a:pt x="119" y="93"/>
                </a:cubicBezTo>
                <a:cubicBezTo>
                  <a:pt x="100" y="85"/>
                  <a:pt x="96" y="59"/>
                  <a:pt x="85" y="42"/>
                </a:cubicBezTo>
                <a:cubicBezTo>
                  <a:pt x="79" y="59"/>
                  <a:pt x="86" y="93"/>
                  <a:pt x="68" y="93"/>
                </a:cubicBezTo>
                <a:cubicBezTo>
                  <a:pt x="48" y="93"/>
                  <a:pt x="15" y="50"/>
                  <a:pt x="34" y="42"/>
                </a:cubicBezTo>
                <a:cubicBezTo>
                  <a:pt x="71" y="27"/>
                  <a:pt x="113" y="53"/>
                  <a:pt x="152" y="59"/>
                </a:cubicBezTo>
                <a:cubicBezTo>
                  <a:pt x="146" y="93"/>
                  <a:pt x="135" y="127"/>
                  <a:pt x="135" y="161"/>
                </a:cubicBezTo>
                <a:cubicBezTo>
                  <a:pt x="135" y="190"/>
                  <a:pt x="129" y="94"/>
                  <a:pt x="152" y="76"/>
                </a:cubicBezTo>
                <a:cubicBezTo>
                  <a:pt x="170" y="61"/>
                  <a:pt x="197" y="87"/>
                  <a:pt x="220" y="93"/>
                </a:cubicBezTo>
                <a:cubicBezTo>
                  <a:pt x="203" y="99"/>
                  <a:pt x="179" y="125"/>
                  <a:pt x="169" y="110"/>
                </a:cubicBezTo>
                <a:cubicBezTo>
                  <a:pt x="156" y="91"/>
                  <a:pt x="165" y="52"/>
                  <a:pt x="186" y="42"/>
                </a:cubicBezTo>
                <a:cubicBezTo>
                  <a:pt x="202" y="34"/>
                  <a:pt x="190" y="80"/>
                  <a:pt x="203" y="93"/>
                </a:cubicBezTo>
                <a:cubicBezTo>
                  <a:pt x="259" y="149"/>
                  <a:pt x="254" y="80"/>
                  <a:pt x="254" y="12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267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51400" y="4518000"/>
            <a:ext cx="216000" cy="79560"/>
          </a:xfrm>
          <a:custGeom>
            <a:avLst/>
            <a:gdLst/>
            <a:ahLst/>
            <a:rect l="l" t="t" r="r" b="b"/>
            <a:pathLst>
              <a:path w="136" h="50">
                <a:moveTo>
                  <a:pt x="0" y="0"/>
                </a:moveTo>
                <a:cubicBezTo>
                  <a:pt x="75" y="50"/>
                  <a:pt x="31" y="34"/>
                  <a:pt x="136" y="34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876920"/>
            <a:ext cx="533520" cy="83808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838080"/>
              <a:gd name="textAreaBottom" fmla="*/ 812160 h 838080"/>
            </a:gdLst>
            <a:ahLst/>
            <a:rect l="textAreaLeft" t="textAreaTop" r="textAreaRight" b="textAreaBottom"/>
            <a:pathLst>
              <a:path w="21600" h="33922">
                <a:moveTo>
                  <a:pt x="3600" y="0"/>
                </a:moveTo>
                <a:arcTo wR="3600" hR="3600" stAng="16200000" swAng="-5400000"/>
                <a:lnTo>
                  <a:pt x="0" y="30322"/>
                </a:lnTo>
                <a:arcTo wR="3600" hR="3600" stAng="10800000" swAng="-5400000"/>
                <a:lnTo>
                  <a:pt x="18000" y="33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4724280"/>
            <a:ext cx="60984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71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knew it was his lucky 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64771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276360" y="3352680"/>
            <a:ext cx="1523880" cy="1067040"/>
          </a:xfrm>
          <a:prstGeom prst="wedgeEllipseCallout">
            <a:avLst>
              <a:gd name="adj1" fmla="val -48958"/>
              <a:gd name="adj2" fmla="val -6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3429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’m luck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9625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53341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962520"/>
            <a:ext cx="83844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5334120"/>
            <a:ext cx="83844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9625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5334120"/>
            <a:ext cx="838080" cy="1143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na01491a" descr=""/>
          <p:cNvPicPr/>
          <p:nvPr/>
        </p:nvPicPr>
        <p:blipFill>
          <a:blip r:embed="rId2"/>
          <a:stretch/>
        </p:blipFill>
        <p:spPr>
          <a:xfrm>
            <a:off x="5715000" y="685800"/>
            <a:ext cx="2895480" cy="2685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V="1">
            <a:off x="5867280" y="837720"/>
            <a:ext cx="1371600" cy="152424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162920" y="837360"/>
            <a:ext cx="1218960" cy="1600200"/>
          </a:xfrm>
          <a:prstGeom prst="rtTriangl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038480"/>
            <a:ext cx="2438280" cy="2819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4724280"/>
            <a:ext cx="1295280" cy="1371600"/>
            <a:chOff x="457200" y="4724280"/>
            <a:chExt cx="1295280" cy="1371600"/>
          </a:xfrm>
        </p:grpSpPr>
        <p:sp>
          <p:nvSpPr>
            <p:cNvPr id="110" name=""/>
            <p:cNvSpPr/>
            <p:nvPr/>
          </p:nvSpPr>
          <p:spPr>
            <a:xfrm>
              <a:off x="533520" y="4724280"/>
              <a:ext cx="457200" cy="457200"/>
            </a:xfrm>
            <a:prstGeom prst="ellipse">
              <a:avLst/>
            </a:prstGeom>
            <a:solidFill>
              <a:srgbClr val="e2c1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510552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143000" y="4800600"/>
              <a:ext cx="609480" cy="1295280"/>
              <a:chOff x="1143000" y="4800600"/>
              <a:chExt cx="609480" cy="1295280"/>
            </a:xfrm>
          </p:grpSpPr>
          <p:sp>
            <p:nvSpPr>
              <p:cNvPr id="113" name=""/>
              <p:cNvSpPr/>
              <p:nvPr/>
            </p:nvSpPr>
            <p:spPr>
              <a:xfrm>
                <a:off x="1219320" y="4800600"/>
                <a:ext cx="457200" cy="457200"/>
              </a:xfrm>
              <a:prstGeom prst="ellipse">
                <a:avLst/>
              </a:prstGeom>
              <a:solidFill>
                <a:srgbClr val="e2c17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3000" y="5257800"/>
                <a:ext cx="6094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362320" y="3733920"/>
            <a:ext cx="609480" cy="1294920"/>
            <a:chOff x="2362320" y="3733920"/>
            <a:chExt cx="609480" cy="1294920"/>
          </a:xfrm>
        </p:grpSpPr>
        <p:sp>
          <p:nvSpPr>
            <p:cNvPr id="116" name=""/>
            <p:cNvSpPr/>
            <p:nvPr/>
          </p:nvSpPr>
          <p:spPr>
            <a:xfrm>
              <a:off x="2438280" y="37339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1907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57200" y="533520"/>
            <a:ext cx="51055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got to school and showed his coin to Mrs. Vermiglio and she let him share it with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ran0571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4419360" cy="4419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3808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had forgotten that they were going a field trip. He was going to Discovery Pla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fish11" descr="free fish clipart for kid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095880" y="413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fish1" descr=""/>
          <p:cNvPicPr/>
          <p:nvPr/>
        </p:nvPicPr>
        <p:blipFill>
          <a:blip r:embed="rId3"/>
          <a:stretch/>
        </p:blipFill>
        <p:spPr>
          <a:xfrm>
            <a:off x="762120" y="609480"/>
            <a:ext cx="1828800" cy="1341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8120" y="838080"/>
            <a:ext cx="5181480" cy="2531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 Discovery Place he saw lots of fish. His friend Jada liked the purple 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fish10" descr=""/>
          <p:cNvPicPr/>
          <p:nvPr/>
        </p:nvPicPr>
        <p:blipFill>
          <a:blip r:embed="rId4"/>
          <a:stretch/>
        </p:blipFill>
        <p:spPr>
          <a:xfrm>
            <a:off x="1523880" y="3886200"/>
            <a:ext cx="314352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an00010_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3263760" cy="3581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05520" y="68580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hole class really wanted to see the dinosaurs. They begged Mrs. Vermiglio to let them. The class made a train with Mrs. Johannes as the caboose as they went to se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438280"/>
            <a:ext cx="914400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629400" y="0"/>
            <a:ext cx="1295280" cy="2057400"/>
            <a:chOff x="6629400" y="0"/>
            <a:chExt cx="1295280" cy="2057400"/>
          </a:xfrm>
        </p:grpSpPr>
        <p:sp>
          <p:nvSpPr>
            <p:cNvPr id="133" name=""/>
            <p:cNvSpPr/>
            <p:nvPr/>
          </p:nvSpPr>
          <p:spPr>
            <a:xfrm>
              <a:off x="662940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495680" y="0"/>
            <a:ext cx="1295280" cy="2057400"/>
            <a:chOff x="4495680" y="0"/>
            <a:chExt cx="1295280" cy="2057400"/>
          </a:xfrm>
        </p:grpSpPr>
        <p:sp>
          <p:nvSpPr>
            <p:cNvPr id="136" name=""/>
            <p:cNvSpPr/>
            <p:nvPr/>
          </p:nvSpPr>
          <p:spPr>
            <a:xfrm>
              <a:off x="449568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8148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38280" y="0"/>
            <a:ext cx="1295280" cy="2057400"/>
            <a:chOff x="2438280" y="0"/>
            <a:chExt cx="1295280" cy="2057400"/>
          </a:xfrm>
        </p:grpSpPr>
        <p:sp>
          <p:nvSpPr>
            <p:cNvPr id="139" name=""/>
            <p:cNvSpPr/>
            <p:nvPr/>
          </p:nvSpPr>
          <p:spPr>
            <a:xfrm>
              <a:off x="243828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2408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33520" y="0"/>
            <a:ext cx="1295280" cy="2057400"/>
            <a:chOff x="533520" y="0"/>
            <a:chExt cx="1295280" cy="2057400"/>
          </a:xfrm>
        </p:grpSpPr>
        <p:sp>
          <p:nvSpPr>
            <p:cNvPr id="142" name=""/>
            <p:cNvSpPr/>
            <p:nvPr/>
          </p:nvSpPr>
          <p:spPr>
            <a:xfrm>
              <a:off x="533520" y="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19320" y="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81680" y="4800600"/>
            <a:ext cx="1295280" cy="2057400"/>
            <a:chOff x="6781680" y="4800600"/>
            <a:chExt cx="1295280" cy="2057400"/>
          </a:xfrm>
        </p:grpSpPr>
        <p:sp>
          <p:nvSpPr>
            <p:cNvPr id="145" name=""/>
            <p:cNvSpPr/>
            <p:nvPr/>
          </p:nvSpPr>
          <p:spPr>
            <a:xfrm>
              <a:off x="678168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648320" y="4800600"/>
            <a:ext cx="1295280" cy="2057400"/>
            <a:chOff x="4648320" y="4800600"/>
            <a:chExt cx="1295280" cy="2057400"/>
          </a:xfrm>
        </p:grpSpPr>
        <p:sp>
          <p:nvSpPr>
            <p:cNvPr id="148" name=""/>
            <p:cNvSpPr/>
            <p:nvPr/>
          </p:nvSpPr>
          <p:spPr>
            <a:xfrm>
              <a:off x="464832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412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666880" y="4800600"/>
            <a:ext cx="1295280" cy="2057400"/>
            <a:chOff x="2666880" y="4800600"/>
            <a:chExt cx="1295280" cy="2057400"/>
          </a:xfrm>
        </p:grpSpPr>
        <p:sp>
          <p:nvSpPr>
            <p:cNvPr id="151" name=""/>
            <p:cNvSpPr/>
            <p:nvPr/>
          </p:nvSpPr>
          <p:spPr>
            <a:xfrm>
              <a:off x="266688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" y="4800600"/>
            <a:ext cx="1295280" cy="2057400"/>
            <a:chOff x="685800" y="4800600"/>
            <a:chExt cx="1295280" cy="2057400"/>
          </a:xfrm>
        </p:grpSpPr>
        <p:sp>
          <p:nvSpPr>
            <p:cNvPr id="154" name=""/>
            <p:cNvSpPr/>
            <p:nvPr/>
          </p:nvSpPr>
          <p:spPr>
            <a:xfrm>
              <a:off x="685800" y="4800600"/>
              <a:ext cx="1295280" cy="20574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1600" y="4800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14600" y="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45720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57200"/>
            <a:ext cx="609480" cy="838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5562720"/>
            <a:ext cx="457200" cy="457200"/>
          </a:xfrm>
          <a:prstGeom prst="ellipse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601992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8320" y="5562720"/>
            <a:ext cx="609480" cy="1294920"/>
            <a:chOff x="4648320" y="5562720"/>
            <a:chExt cx="609480" cy="1294920"/>
          </a:xfrm>
        </p:grpSpPr>
        <p:sp>
          <p:nvSpPr>
            <p:cNvPr id="163" name=""/>
            <p:cNvSpPr/>
            <p:nvPr/>
          </p:nvSpPr>
          <p:spPr>
            <a:xfrm>
              <a:off x="4724280" y="55627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8320" y="60195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934320" y="5562720"/>
            <a:ext cx="609480" cy="1294920"/>
            <a:chOff x="6934320" y="5562720"/>
            <a:chExt cx="609480" cy="1294920"/>
          </a:xfrm>
        </p:grpSpPr>
        <p:sp>
          <p:nvSpPr>
            <p:cNvPr id="166" name=""/>
            <p:cNvSpPr/>
            <p:nvPr/>
          </p:nvSpPr>
          <p:spPr>
            <a:xfrm>
              <a:off x="7010280" y="55627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60195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495680" y="0"/>
            <a:ext cx="609480" cy="1294920"/>
            <a:chOff x="4495680" y="0"/>
            <a:chExt cx="609480" cy="1294920"/>
          </a:xfrm>
        </p:grpSpPr>
        <p:sp>
          <p:nvSpPr>
            <p:cNvPr id="169" name=""/>
            <p:cNvSpPr/>
            <p:nvPr/>
          </p:nvSpPr>
          <p:spPr>
            <a:xfrm>
              <a:off x="4571640" y="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45684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33520" y="0"/>
            <a:ext cx="609480" cy="1294920"/>
            <a:chOff x="533520" y="0"/>
            <a:chExt cx="609480" cy="1294920"/>
          </a:xfrm>
        </p:grpSpPr>
        <p:sp>
          <p:nvSpPr>
            <p:cNvPr id="172" name=""/>
            <p:cNvSpPr/>
            <p:nvPr/>
          </p:nvSpPr>
          <p:spPr>
            <a:xfrm>
              <a:off x="609480" y="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520" y="45684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 rot="4740000">
            <a:off x="1248840" y="5900760"/>
            <a:ext cx="457200" cy="457200"/>
          </a:xfrm>
          <a:prstGeom prst="ellipse">
            <a:avLst/>
          </a:prstGeom>
          <a:solidFill>
            <a:srgbClr val="765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4740000">
            <a:off x="536400" y="5833800"/>
            <a:ext cx="609840" cy="838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05720" y="609480"/>
            <a:ext cx="609480" cy="1295640"/>
            <a:chOff x="6705720" y="609480"/>
            <a:chExt cx="609480" cy="1295640"/>
          </a:xfrm>
        </p:grpSpPr>
        <p:sp>
          <p:nvSpPr>
            <p:cNvPr id="177" name=""/>
            <p:cNvSpPr/>
            <p:nvPr/>
          </p:nvSpPr>
          <p:spPr>
            <a:xfrm>
              <a:off x="6781680" y="609480"/>
              <a:ext cx="457200" cy="45720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05720" y="1066680"/>
              <a:ext cx="609480" cy="838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0" y="609480"/>
            <a:ext cx="609480" cy="1295640"/>
            <a:chOff x="4572000" y="609480"/>
            <a:chExt cx="609480" cy="1295640"/>
          </a:xfrm>
        </p:grpSpPr>
        <p:sp>
          <p:nvSpPr>
            <p:cNvPr id="180" name=""/>
            <p:cNvSpPr/>
            <p:nvPr/>
          </p:nvSpPr>
          <p:spPr>
            <a:xfrm>
              <a:off x="4647960" y="609480"/>
              <a:ext cx="457200" cy="45720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1066680"/>
              <a:ext cx="609480" cy="838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90920" y="838080"/>
            <a:ext cx="457200" cy="457200"/>
          </a:xfrm>
          <a:prstGeom prst="ellipse">
            <a:avLst/>
          </a:prstGeom>
          <a:solidFill>
            <a:srgbClr val="765b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1295280"/>
            <a:ext cx="609480" cy="838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838080"/>
            <a:ext cx="457200" cy="457200"/>
          </a:xfrm>
          <a:prstGeom prst="ellipse">
            <a:avLst/>
          </a:prstGeom>
          <a:solidFill>
            <a:srgbClr val="e2c17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295280"/>
            <a:ext cx="609480" cy="8384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2120" y="4648320"/>
            <a:ext cx="609480" cy="1294920"/>
            <a:chOff x="762120" y="4648320"/>
            <a:chExt cx="609480" cy="1294920"/>
          </a:xfrm>
        </p:grpSpPr>
        <p:sp>
          <p:nvSpPr>
            <p:cNvPr id="187" name=""/>
            <p:cNvSpPr/>
            <p:nvPr/>
          </p:nvSpPr>
          <p:spPr>
            <a:xfrm>
              <a:off x="838080" y="4648320"/>
              <a:ext cx="457200" cy="456840"/>
            </a:xfrm>
            <a:prstGeom prst="ellipse">
              <a:avLst/>
            </a:prstGeom>
            <a:solidFill>
              <a:srgbClr val="765b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5105160"/>
              <a:ext cx="609480" cy="838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066680" y="2743200"/>
            <a:ext cx="647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ents were so tired they fell asleep on the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229600" y="266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895480" y="2209680"/>
            <a:ext cx="2971800" cy="4648320"/>
            <a:chOff x="2895480" y="2209680"/>
            <a:chExt cx="2971800" cy="4648320"/>
          </a:xfrm>
        </p:grpSpPr>
        <p:sp>
          <p:nvSpPr>
            <p:cNvPr id="193" name=""/>
            <p:cNvSpPr/>
            <p:nvPr/>
          </p:nvSpPr>
          <p:spPr>
            <a:xfrm>
              <a:off x="2895480" y="3581280"/>
              <a:ext cx="2971800" cy="3276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2209680"/>
              <a:ext cx="1828800" cy="25909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9000" y="2209680"/>
              <a:ext cx="1981080" cy="182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3276720"/>
              <a:ext cx="15264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0" y="3276720"/>
              <a:ext cx="15228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38560" y="3576600"/>
              <a:ext cx="325440" cy="270000"/>
            </a:xfrm>
            <a:custGeom>
              <a:avLst/>
              <a:gdLst/>
              <a:ahLst/>
              <a:rect l="l" t="t" r="r" b="b"/>
              <a:pathLst>
                <a:path w="205" h="170">
                  <a:moveTo>
                    <a:pt x="154" y="0"/>
                  </a:moveTo>
                  <a:cubicBezTo>
                    <a:pt x="99" y="19"/>
                    <a:pt x="97" y="8"/>
                    <a:pt x="70" y="68"/>
                  </a:cubicBezTo>
                  <a:cubicBezTo>
                    <a:pt x="55" y="101"/>
                    <a:pt x="0" y="170"/>
                    <a:pt x="36" y="170"/>
                  </a:cubicBezTo>
                  <a:cubicBezTo>
                    <a:pt x="92" y="170"/>
                    <a:pt x="149" y="170"/>
                    <a:pt x="205" y="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33800" y="3898800"/>
              <a:ext cx="812880" cy="409680"/>
            </a:xfrm>
            <a:custGeom>
              <a:avLst/>
              <a:gdLst/>
              <a:ahLst/>
              <a:rect l="l" t="t" r="r" b="b"/>
              <a:pathLst>
                <a:path w="512" h="258">
                  <a:moveTo>
                    <a:pt x="0" y="102"/>
                  </a:moveTo>
                  <a:cubicBezTo>
                    <a:pt x="17" y="113"/>
                    <a:pt x="37" y="122"/>
                    <a:pt x="51" y="136"/>
                  </a:cubicBezTo>
                  <a:cubicBezTo>
                    <a:pt x="128" y="213"/>
                    <a:pt x="37" y="171"/>
                    <a:pt x="136" y="204"/>
                  </a:cubicBezTo>
                  <a:cubicBezTo>
                    <a:pt x="191" y="201"/>
                    <a:pt x="491" y="258"/>
                    <a:pt x="508" y="102"/>
                  </a:cubicBezTo>
                  <a:cubicBezTo>
                    <a:pt x="512" y="68"/>
                    <a:pt x="508" y="34"/>
                    <a:pt x="5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0948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as Darren’s lucky day in first grad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02:16Z</dcterms:created>
  <dc:creator>kcs user</dc:creator>
  <dc:description/>
  <dc:language>en-US</dc:language>
  <cp:lastModifiedBy>kcs user</cp:lastModifiedBy>
  <dcterms:modified xsi:type="dcterms:W3CDTF">2007-11-30T21:57:28Z</dcterms:modified>
  <cp:revision>4</cp:revision>
  <dc:subject/>
  <dc:title>PowerPoint Presentation</dc:title>
</cp:coreProperties>
</file>